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AD1C-937E-4843-932A-37A49DAAF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9ADD-BB5B-4901-8D14-38BBEFDF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7492-D13C-4C1D-A261-DC99613E1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D2FD-41A7-4C2A-98E8-29460E9B6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7CA2-7D10-4E79-A24B-86017F15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BB29-2BBF-4E0B-B13D-8908619A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E8AB-B534-4BA2-B5A6-B87ECFB0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2437-D1EB-4D73-A8E9-7483313A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4EA7-6D10-43F7-97F4-01FD11F6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3541-1912-4940-ADA2-8579017F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2F4D-25BB-499A-84A0-A8CE3FF4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32E4-0F28-44DE-9972-08F50C3D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B325-ACB4-46FA-BC80-A03F046201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8T21:00:46Z</dcterms:created>
  <dc:creator>PorterfP</dc:creator>
  <dc:description/>
  <dc:language>en-US</dc:language>
  <cp:lastModifiedBy>PorterfP</cp:lastModifiedBy>
  <dcterms:modified xsi:type="dcterms:W3CDTF">2008-07-29T14:29:48Z</dcterms:modified>
  <cp:revision>1</cp:revision>
  <dc:subject/>
  <dc:title>Slide 1</dc:title>
</cp:coreProperties>
</file>